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6C852-C16B-4290-B4D7-FC4C9BC08BD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9718D-2A05-4386-BE2D-FEF24A6B62C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7EEC6-3CAE-4038-AB6D-05C041DF525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EAF96-26D6-4F18-9AB6-BAB916893AA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3040F-F1A6-4E2D-B9E1-075C2771D3D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5CA4D-7657-49BC-AA19-51FA0B7B5FB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63E95-9B17-45CC-A82F-9D57620220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DD534-70B8-4789-8256-6B83B0AD34A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02D7E-8505-40A5-AF48-BE2F18D55A5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046F4-BD4E-4240-9750-3408FA7A3EA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2A265-3D7A-4DE3-AF51-FE32287C3D6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0D16-1B42-442E-A0E4-179CE9000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850C-A78E-4CDD-BEEB-70748A57E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00A4-1E21-4825-838A-6B4E66770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6FE4-29FE-4E2E-BA9A-88B5C00C3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9C64-0B8A-47FA-A72B-B16E7F82FC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0B0E-A555-4E8D-8510-DFC1D10274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F6BA-8FF3-46BB-8A53-D00D395772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4E0A-D0C2-4C0F-B8AF-6652A97D9E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C92B-FEC3-4D2A-BF70-6D6706D0A9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6CB0-1AB4-4487-BDB9-E030A86BFF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8AE2-C59D-4FEA-AEE9-4777AC88C5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243E-9BF3-48DF-91E6-AC141D41E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2D55-2EB8-4F48-B5B9-3C69A1063C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9AE6-FAD8-4F59-831D-9B749A828D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91A4-9382-4657-8F4D-CAABA567DB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5182-1949-4578-8D35-93ED7325C7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EB38-B69C-4BCE-8EE3-3D5712CB07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0D8F-BC63-45A6-950F-DCC2E503C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14E6-15D8-4AB2-85E4-64C3D081C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212D-B1BB-45E1-93B4-26DBC99B4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35D7-0739-4350-B2EB-26F889CCD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AA67-5AAB-41C8-8B4E-493DF46A4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5C96-3318-47BF-BE2E-76F55847F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7D50-0BC2-42BF-8B50-94529FD76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2280" y="3104640"/>
            <a:ext cx="6208920" cy="22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6993C3-56DE-4BE8-8997-1E539813887B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890FD7F3-83F0-45A9-A439-3CECA33B53CD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8A463C-FC87-4588-8C7E-2908E58E1D6E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48DCEFC4-14F0-43BA-B29B-147B99D80FB0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852640" y="3105000"/>
            <a:ext cx="6210360" cy="2237040"/>
          </a:xfrm>
          <a:prstGeom prst="rect">
            <a:avLst/>
          </a:prstGeom>
          <a:solidFill>
            <a:srgbClr val="ed0c8b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Meta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ERD2U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7160" y="5886360"/>
            <a:ext cx="5416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20 ok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llen De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571680" y="1071720"/>
          <a:ext cx="4000320" cy="5416560"/>
        </p:xfrm>
        <a:graphic>
          <a:graphicData uri="http://schemas.openxmlformats.org/drawingml/2006/table">
            <a:tbl>
              <a:tblPr/>
              <a:tblGrid>
                <a:gridCol w="1215720"/>
                <a:gridCol w="2784600"/>
              </a:tblGrid>
              <a:tr h="39816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PLAATS heeft als hoofdadres NUMMERAANDUI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 op basis van B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 relatieso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.10/58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identificatiecode nummeraanduiding waaronder het hoofdadres van een LIGPLAATS, dat in het kader van de basisregistratie gebouwen als zodanig is aangemerkt, is opgenomen in de basisregistratie adress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definiti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 op basis van B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opnam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-04-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elichting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de BAG is dit gemodelleerd als het attribuutsoort ‘Aanduiding hoofdadres ligplaats’ bij het objecttype LIGPLAA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relatie is de tegenhanger van het relatiesoort NUMMERAANDUIDING is hoofdadres van LIGPLAA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relatiesoort maakt deel uit van de groepattribuutsoort BAG-gegevens. Zie verder de toelichtingen in de BAG bij beide attribuutsoort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els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786200" y="1000080"/>
          <a:ext cx="3857760" cy="5695920"/>
        </p:xfrm>
        <a:graphic>
          <a:graphicData uri="http://schemas.openxmlformats.org/drawingml/2006/table">
            <a:tbl>
              <a:tblPr/>
              <a:tblGrid>
                <a:gridCol w="1067040"/>
                <a:gridCol w="2790720"/>
              </a:tblGrid>
              <a:tr h="39060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MERAANDUIDING is hoofdadres van LIGPLA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 relatieso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LIGPLAATS waarbij de NUMMERAANDUIDING als onderdeel van het hoofdadres is opgenom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definiti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opnam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-04-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elichting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relatie is de tegenhanger van de attribuutsoort ‘Aanduiding hoofdadres ligplaats’ bij de LIGPLAATS in de BAG cq. van het relatiesoort LIGPLAATS heeft als hoofdadres NUMMERAANDUID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relatiesoort maakt deel uit van de groepattribuutsoort BAG-gegevens. Zie verder de toelichting in de BA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els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ke nummeraanduiding heeft deze relatie dan wel precies één van de andere hoofd- of nevenadresrelaties naar een verblijfsobject, ligplaats of standplaats. Een nummeraanduiding kan dus slechts het hoofd- of het nevenadres zijn van een verblijfsobject dan wel een lig- of standplaa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itel 1"/>
          <p:cNvSpPr/>
          <p:nvPr/>
        </p:nvSpPr>
        <p:spPr>
          <a:xfrm>
            <a:off x="1643040" y="21420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100" spc="-1" strike="noStrike">
                <a:solidFill>
                  <a:srgbClr val="ed0c8b"/>
                </a:solidFill>
                <a:latin typeface="Verdana"/>
              </a:rPr>
              <a:t>Voorbeeld specificati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100" spc="-1" strike="noStrike">
                <a:solidFill>
                  <a:srgbClr val="ed0c8b"/>
                </a:solidFill>
                <a:latin typeface="Verdana"/>
              </a:rPr>
              <a:t>heen- en terugrelati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572080" cy="48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el 1"/>
          <p:cNvSpPr/>
          <p:nvPr/>
        </p:nvSpPr>
        <p:spPr>
          <a:xfrm>
            <a:off x="1643040" y="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Voorbeel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relatiesoort binn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groepattribuutsoor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8494560" cy="4143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000080" y="447840"/>
            <a:ext cx="6043680" cy="7581600"/>
          </a:xfrm>
          <a:prstGeom prst="rect">
            <a:avLst/>
          </a:prstGeom>
          <a:ln w="0">
            <a:noFill/>
          </a:ln>
        </p:spPr>
      </p:pic>
      <p:sp>
        <p:nvSpPr>
          <p:cNvPr id="123" name="Ovaal 2"/>
          <p:cNvSpPr/>
          <p:nvPr/>
        </p:nvSpPr>
        <p:spPr>
          <a:xfrm>
            <a:off x="1500120" y="1643040"/>
            <a:ext cx="3714840" cy="3643200"/>
          </a:xfrm>
          <a:prstGeom prst="ellipse">
            <a:avLst/>
          </a:prstGeom>
          <a:solidFill>
            <a:srgbClr val="d9d9d9">
              <a:alpha val="54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Tagged value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28760" y="1193760"/>
            <a:ext cx="8429400" cy="566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el 1"/>
          <p:cNvSpPr/>
          <p:nvPr/>
        </p:nvSpPr>
        <p:spPr>
          <a:xfrm>
            <a:off x="128592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Mapping informatie model items uit brondocumentati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op EA mod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3342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Is (hulp)middel voo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de omzetting van Word naar 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afstemming met NEN3610 informatiemode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afstemming met stelsel van basisregistra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uitwisselbaarheid met andere casetool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el 1"/>
          <p:cNvSpPr/>
          <p:nvPr/>
        </p:nvSpPr>
        <p:spPr>
          <a:xfrm>
            <a:off x="2071800" y="14292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otivatie </a:t>
            </a:r>
            <a:r>
              <a:rPr b="1" lang="nl-NL" sz="2400" spc="-1" strike="noStrike">
                <a:solidFill>
                  <a:srgbClr val="ed0c8b"/>
                </a:solidFill>
                <a:latin typeface="Verdana"/>
              </a:rPr>
              <a:t>ERD2U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ed0c8b"/>
                </a:solidFill>
                <a:latin typeface="Verdana"/>
              </a:rPr>
              <a:t>meta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06720" y="1606680"/>
          <a:ext cx="4929120" cy="2365200"/>
        </p:xfrm>
        <a:graphic>
          <a:graphicData uri="http://schemas.openxmlformats.org/drawingml/2006/table">
            <a:tbl>
              <a:tblPr/>
              <a:tblGrid>
                <a:gridCol w="49291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da5c21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da5c21"/>
                          </a:solidFill>
                          <a:latin typeface="Verdana"/>
                          <a:ea typeface="Calibri"/>
                        </a:rPr>
                        <a:t>Uitgangspun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da5c21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da5c21"/>
                          </a:solidFill>
                          <a:latin typeface="Verdana"/>
                          <a:ea typeface="Calibri"/>
                        </a:rPr>
                        <a:t>Metamodel ERD2U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:1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pecificaties (=tekst) als b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‘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eigen’ interpretatie van specificaties vermijd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géén inhoudelijke wijzigingen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behoud van alle modelinform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onderscheid in presentatie (catalogus) 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registratie (EA)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Uitgang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con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06720" y="1606680"/>
          <a:ext cx="4929120" cy="2365200"/>
        </p:xfrm>
        <a:graphic>
          <a:graphicData uri="http://schemas.openxmlformats.org/drawingml/2006/table">
            <a:tbl>
              <a:tblPr/>
              <a:tblGrid>
                <a:gridCol w="49291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da5c21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da5c21"/>
                          </a:solidFill>
                          <a:latin typeface="Verdana"/>
                          <a:ea typeface="Calibri"/>
                        </a:rPr>
                        <a:t>Uitgangspun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da5c21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da5c21"/>
                          </a:solidFill>
                          <a:latin typeface="Verdana"/>
                          <a:ea typeface="Calibri"/>
                        </a:rPr>
                        <a:t>Metamodel ERD2U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572080" cy="48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14200" y="1238400"/>
          <a:ext cx="4429080" cy="5619600"/>
        </p:xfrm>
        <a:graphic>
          <a:graphicData uri="http://schemas.openxmlformats.org/drawingml/2006/table">
            <a:tbl>
              <a:tblPr/>
              <a:tblGrid>
                <a:gridCol w="1351080"/>
                <a:gridCol w="3078000"/>
              </a:tblGrid>
              <a:tr h="502920">
                <a:tc gridSpan="2"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type NATUURLIJK PERSO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epattribuutsoort Persoonsgegev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onsgegev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 attribuutso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gevens over de NATUURLIJK PERS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 op basis van 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opnam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april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20559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elichting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betreft een groepattribuutsoort dat bestaat uit de volgende (groep)attribuutsoorte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2 Na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4.10 Geslachtsaandui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61.10 Aanduiding naam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3 Gebo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1 Ingeschreven persoon . Identificatienummers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is ontleend aan categorie 01 in de GBA. Zie verder de toelichting in de GB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86200" y="1285920"/>
          <a:ext cx="4357800" cy="4071960"/>
        </p:xfrm>
        <a:graphic>
          <a:graphicData uri="http://schemas.openxmlformats.org/drawingml/2006/table">
            <a:tbl>
              <a:tblPr/>
              <a:tblGrid>
                <a:gridCol w="1139760"/>
                <a:gridCol w="3218040"/>
              </a:tblGrid>
              <a:tr h="5472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materiële histo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formele histo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gebeurten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bron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: AkteGemeente, Documentidentificatie, Documentgemeente, Documentdatum, Documentbeschrijving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in onderzo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strijdigheid/nietighe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kardinalite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authenti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et authentiek landelijk basisgegeven indien het een ingeschreven persoon betreft, anders een gemeentelijk basisgegev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itel 1"/>
          <p:cNvSpPr/>
          <p:nvPr/>
        </p:nvSpPr>
        <p:spPr>
          <a:xfrm>
            <a:off x="2000160" y="28584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100" spc="-1" strike="noStrike">
                <a:solidFill>
                  <a:srgbClr val="ed0c8b"/>
                </a:solidFill>
                <a:latin typeface="Verdana"/>
              </a:rPr>
              <a:t>Voorbeeld specificati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100" spc="-1" strike="noStrike">
                <a:solidFill>
                  <a:srgbClr val="ed0c8b"/>
                </a:solidFill>
                <a:latin typeface="Verdana"/>
              </a:rPr>
              <a:t>groepattribuu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572080" cy="48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14200" y="1238400"/>
          <a:ext cx="4429080" cy="5619600"/>
        </p:xfrm>
        <a:graphic>
          <a:graphicData uri="http://schemas.openxmlformats.org/drawingml/2006/table">
            <a:tbl>
              <a:tblPr/>
              <a:tblGrid>
                <a:gridCol w="1351080"/>
                <a:gridCol w="3078000"/>
              </a:tblGrid>
              <a:tr h="502920">
                <a:tc gridSpan="2"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epattribuutsoort Persoonsgegev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onsgegev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 attribuutso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gevens over de NATUURLIJK PERS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 op basis van 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opnam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april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20559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elichting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betreft een groepattribuutsoort dat bestaat uit de volgende (groep)attribuutsoorte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2 Na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4.10 Geslachtsaandui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61.10 Aanduiding naam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3 Gebo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1 Ingeschreven persoon . Identificatienummers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is ontleend aan categorie 01 in de GBA. Zie verder de toelichting in de GB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6200" y="1285920"/>
          <a:ext cx="4357800" cy="4071960"/>
        </p:xfrm>
        <a:graphic>
          <a:graphicData uri="http://schemas.openxmlformats.org/drawingml/2006/table">
            <a:tbl>
              <a:tblPr/>
              <a:tblGrid>
                <a:gridCol w="1139760"/>
                <a:gridCol w="3218040"/>
              </a:tblGrid>
              <a:tr h="5472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materiële histo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formele histo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gebeurten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bron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: AkteGemeente, Documentidentificatie, Documentgemeente, Documentdatum, Documentbeschrijving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in onderzo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strijdigheid/nietighe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kardinalite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authenti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et authentiek landelijk basisgegeven indien het een ingeschreven persoon betreft, anders een gemeentelijk basisgegev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786200" y="1071720"/>
          <a:ext cx="4103640" cy="4308480"/>
        </p:xfrm>
        <a:graphic>
          <a:graphicData uri="http://schemas.openxmlformats.org/drawingml/2006/table">
            <a:tbl>
              <a:tblPr/>
              <a:tblGrid>
                <a:gridCol w="1252800"/>
                <a:gridCol w="2850840"/>
              </a:tblGrid>
              <a:tr h="279360">
                <a:tc gridSpan="2"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groepattribuutsoort Na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0140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0140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 attribuutso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0140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gevens over de naam van de natuurlijk pers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5368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 op basis van 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0140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opnam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april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46736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elichting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betreft een groepattribuutsoort dat bestaat uit de volgende attribuutsoorte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na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llijke titel/predik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voegsels geslachtsna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slachtsnaa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attribuutsoort maakt deel uit van het groepattribuutsoort Persoonsgegevens. .Zie verder de toelichting in de GB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110" name="Ovaal 4"/>
          <p:cNvSpPr/>
          <p:nvPr/>
        </p:nvSpPr>
        <p:spPr>
          <a:xfrm>
            <a:off x="714240" y="5286240"/>
            <a:ext cx="3272040" cy="214560"/>
          </a:xfrm>
          <a:prstGeom prst="ellipse">
            <a:avLst/>
          </a:prstGeom>
          <a:solidFill>
            <a:srgbClr val="c2fff0">
              <a:alpha val="62000"/>
            </a:srgbClr>
          </a:solidFill>
          <a:ln w="38160">
            <a:solidFill>
              <a:srgbClr val="fe1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Rechte verbindingslijn met pijl 6"/>
          <p:cNvCxnSpPr/>
          <p:nvPr/>
        </p:nvCxnSpPr>
        <p:spPr>
          <a:xfrm flipV="1">
            <a:off x="3857760" y="4428360"/>
            <a:ext cx="1000800" cy="857880"/>
          </a:xfrm>
          <a:prstGeom prst="straightConnector1">
            <a:avLst/>
          </a:prstGeom>
          <a:ln w="38160">
            <a:solidFill>
              <a:srgbClr val="fe1a02"/>
            </a:solidFill>
            <a:miter/>
            <a:tailEnd len="med" type="arrow" w="med"/>
          </a:ln>
        </p:spPr>
      </p:cxnSp>
      <p:sp>
        <p:nvSpPr>
          <p:cNvPr id="112" name="Titel 1"/>
          <p:cNvSpPr/>
          <p:nvPr/>
        </p:nvSpPr>
        <p:spPr>
          <a:xfrm>
            <a:off x="1357200" y="21420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 </a:t>
            </a: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Voorbeeld groepattribuu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 </a:t>
            </a: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omvat  </a:t>
            </a:r>
            <a:r>
              <a:rPr b="1" lang="nl-NL" sz="1900" spc="-1" strike="noStrike">
                <a:solidFill>
                  <a:srgbClr val="ed0c8b"/>
                </a:solidFill>
                <a:latin typeface="Verdana"/>
              </a:rPr>
              <a:t>1 of meer </a:t>
            </a: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subgroepattribut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572080" cy="48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Arjan Kloosterboer</dc:creator>
  <dc:description/>
  <dc:language>en-US</dc:language>
  <cp:lastModifiedBy>Debat_E</cp:lastModifiedBy>
  <dcterms:modified xsi:type="dcterms:W3CDTF">2010-10-15T08:34:41Z</dcterms:modified>
  <cp:revision>410</cp:revision>
  <dc:subject/>
  <dc:title>Metamodel ERD2U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